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C074-309D-4165-8FF0-3042A44E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F123-E47D-4407-9F26-A0AE35F0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3784-BB11-49A4-9704-5BF4A3CF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7E8C-3E18-44CC-9BE0-703C38C2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7927-6B49-4A73-83E2-9E8C9B7A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DAF6-2BE9-4402-B27F-FEFF6F2A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1BA2-446C-4939-B08C-A64AF988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1854-9409-4A7D-9BAD-7C710C40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17F8-E15F-4454-94BF-6BC0A233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16A9-B11A-47D7-90E4-B9AC42BF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9662-CE97-4D33-93C9-90699624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29A1-49DB-4EB5-BD8B-19A1943C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8EA9-F80A-4F39-B0B5-CB9099B1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38CF-87C9-40D8-A1BE-FE87055E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6CC7-B170-4DA8-AE1E-BAB5CD29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0026-22F9-422A-BD31-C53431B3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DFCE-338D-4E68-AAE8-866591D9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B22D-C073-4301-8A50-1E30D76B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E719-43EC-49D7-94B7-5573324D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4C20-6DFE-418C-B075-ADB5A78E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7E1A-7CFA-47A0-9BE7-B6EE1171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3C80-0EB9-46C9-9A9C-CB3212F0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CDF0-2F7C-4F10-AFF6-908C88DB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C374-238D-4C76-8A7B-5F4CB93C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315A-7E18-4AF3-867C-E8C8B780E7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360" y="216036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BRYŁ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2992-71C8-4149-B852-CF52FD7C13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.wmf"/><Relationship Id="rId2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58920" y="1628640"/>
            <a:ext cx="712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OPIS PROSTOPADŁOŚCIANU: ŚCIANY, KRAWĘDZIE, WIERZCHOŁ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ŚCIANY RÓWNOLEGŁ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073160" y="1701720"/>
          <a:ext cx="318456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170172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392800" y="1719360"/>
          <a:ext cx="3184560" cy="363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2800" y="171936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9" name=""/>
          <p:cNvGrpSpPr/>
          <p:nvPr/>
        </p:nvGrpSpPr>
        <p:grpSpPr>
          <a:xfrm>
            <a:off x="5421240" y="1748160"/>
            <a:ext cx="3127320" cy="3573360"/>
            <a:chOff x="5421240" y="1748160"/>
            <a:chExt cx="3127320" cy="3573360"/>
          </a:xfrm>
        </p:grpSpPr>
        <p:sp>
          <p:nvSpPr>
            <p:cNvPr id="300" name=""/>
            <p:cNvSpPr/>
            <p:nvPr/>
          </p:nvSpPr>
          <p:spPr>
            <a:xfrm>
              <a:off x="5421240" y="2641680"/>
              <a:ext cx="0" cy="267984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48560" y="1748160"/>
              <a:ext cx="0" cy="26794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65720" y="2641680"/>
              <a:ext cx="0" cy="178596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04080" y="4427640"/>
              <a:ext cx="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5421240" y="1748160"/>
              <a:ext cx="744480" cy="8935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5421240" y="4427280"/>
              <a:ext cx="744480" cy="89388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804080" y="4427280"/>
              <a:ext cx="74448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7804080" y="1748160"/>
              <a:ext cx="744480" cy="8935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65720" y="2641680"/>
              <a:ext cx="163836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65720" y="1748160"/>
              <a:ext cx="238284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21240" y="5321520"/>
              <a:ext cx="238284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65720" y="4427640"/>
              <a:ext cx="163836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21240" y="2641680"/>
              <a:ext cx="74448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65720" y="1748160"/>
              <a:ext cx="0" cy="89352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04080" y="4427640"/>
              <a:ext cx="74448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04080" y="2641680"/>
              <a:ext cx="0" cy="17859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18480" y="1762200"/>
              <a:ext cx="714240" cy="2659320"/>
            </a:xfrm>
            <a:custGeom>
              <a:avLst/>
              <a:gdLst/>
              <a:ahLst/>
              <a:rect l="l" t="t" r="r" b="b"/>
              <a:pathLst>
                <a:path w="450" h="1675">
                  <a:moveTo>
                    <a:pt x="0" y="1675"/>
                  </a:moveTo>
                  <a:lnTo>
                    <a:pt x="0" y="558"/>
                  </a:lnTo>
                  <a:lnTo>
                    <a:pt x="450" y="0"/>
                  </a:lnTo>
                  <a:lnTo>
                    <a:pt x="450" y="1675"/>
                  </a:lnTo>
                  <a:lnTo>
                    <a:pt x="0" y="16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818480" y="1762200"/>
              <a:ext cx="714240" cy="2659320"/>
            </a:xfrm>
            <a:custGeom>
              <a:avLst/>
              <a:gdLst/>
              <a:ahLst/>
              <a:rect l="l" t="t" r="r" b="b"/>
              <a:pathLst>
                <a:path w="450" h="1675">
                  <a:moveTo>
                    <a:pt x="0" y="1675"/>
                  </a:moveTo>
                  <a:lnTo>
                    <a:pt x="0" y="558"/>
                  </a:lnTo>
                  <a:lnTo>
                    <a:pt x="450" y="0"/>
                  </a:lnTo>
                  <a:lnTo>
                    <a:pt x="450" y="1675"/>
                  </a:lnTo>
                  <a:lnTo>
                    <a:pt x="0" y="1675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67520" y="1768680"/>
              <a:ext cx="2343240" cy="865080"/>
            </a:xfrm>
            <a:custGeom>
              <a:avLst/>
              <a:gdLst/>
              <a:ahLst/>
              <a:rect l="l" t="t" r="r" b="b"/>
              <a:pathLst>
                <a:path w="1476" h="545">
                  <a:moveTo>
                    <a:pt x="0" y="545"/>
                  </a:moveTo>
                  <a:lnTo>
                    <a:pt x="0" y="0"/>
                  </a:lnTo>
                  <a:lnTo>
                    <a:pt x="1476" y="0"/>
                  </a:lnTo>
                  <a:lnTo>
                    <a:pt x="1042" y="545"/>
                  </a:lnTo>
                  <a:lnTo>
                    <a:pt x="0" y="54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67520" y="1768680"/>
              <a:ext cx="2343240" cy="865080"/>
            </a:xfrm>
            <a:custGeom>
              <a:avLst/>
              <a:gdLst/>
              <a:ahLst/>
              <a:rect l="l" t="t" r="r" b="b"/>
              <a:pathLst>
                <a:path w="1476" h="545">
                  <a:moveTo>
                    <a:pt x="0" y="545"/>
                  </a:moveTo>
                  <a:lnTo>
                    <a:pt x="0" y="0"/>
                  </a:lnTo>
                  <a:lnTo>
                    <a:pt x="1476" y="0"/>
                  </a:lnTo>
                  <a:lnTo>
                    <a:pt x="1042" y="545"/>
                  </a:lnTo>
                  <a:lnTo>
                    <a:pt x="0" y="545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167520" y="2648160"/>
              <a:ext cx="1620720" cy="1774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67520" y="2648160"/>
              <a:ext cx="1620720" cy="1774800"/>
            </a:xfrm>
            <a:prstGeom prst="rect">
              <a:avLst/>
            </a:pr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0080" y="1747080"/>
            <a:ext cx="3152880" cy="3595680"/>
            <a:chOff x="5410080" y="1747080"/>
            <a:chExt cx="3152880" cy="3595680"/>
          </a:xfrm>
        </p:grpSpPr>
        <p:sp>
          <p:nvSpPr>
            <p:cNvPr id="323" name=""/>
            <p:cNvSpPr/>
            <p:nvPr/>
          </p:nvSpPr>
          <p:spPr>
            <a:xfrm>
              <a:off x="8562960" y="1747440"/>
              <a:ext cx="0" cy="269064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816680" y="4438440"/>
              <a:ext cx="0" cy="89640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424480" y="1747080"/>
              <a:ext cx="747720" cy="8967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816680" y="4438440"/>
              <a:ext cx="746280" cy="89640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7816680" y="1747080"/>
              <a:ext cx="746280" cy="8967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72200" y="1747440"/>
              <a:ext cx="239076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24480" y="5335200"/>
              <a:ext cx="239220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59600" y="1755360"/>
              <a:ext cx="0" cy="89676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802640" y="4446360"/>
              <a:ext cx="74772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10080" y="2644560"/>
              <a:ext cx="0" cy="26902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57800" y="2644560"/>
              <a:ext cx="0" cy="179352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410080" y="4438440"/>
              <a:ext cx="747720" cy="89640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10080" y="2644560"/>
              <a:ext cx="74772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18000" y="2658600"/>
              <a:ext cx="731880" cy="2661840"/>
            </a:xfrm>
            <a:custGeom>
              <a:avLst/>
              <a:gdLst/>
              <a:ahLst/>
              <a:rect l="l" t="t" r="r" b="b"/>
              <a:pathLst>
                <a:path w="461" h="1677">
                  <a:moveTo>
                    <a:pt x="461" y="0"/>
                  </a:moveTo>
                  <a:lnTo>
                    <a:pt x="461" y="1118"/>
                  </a:lnTo>
                  <a:lnTo>
                    <a:pt x="0" y="1677"/>
                  </a:lnTo>
                  <a:lnTo>
                    <a:pt x="0" y="0"/>
                  </a:lnTo>
                  <a:lnTo>
                    <a:pt x="461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18000" y="2658600"/>
              <a:ext cx="731880" cy="2661840"/>
            </a:xfrm>
            <a:custGeom>
              <a:avLst/>
              <a:gdLst/>
              <a:ahLst/>
              <a:rect l="l" t="t" r="r" b="b"/>
              <a:pathLst>
                <a:path w="461" h="1677">
                  <a:moveTo>
                    <a:pt x="461" y="0"/>
                  </a:moveTo>
                  <a:lnTo>
                    <a:pt x="461" y="1118"/>
                  </a:lnTo>
                  <a:lnTo>
                    <a:pt x="0" y="1677"/>
                  </a:lnTo>
                  <a:lnTo>
                    <a:pt x="0" y="0"/>
                  </a:lnTo>
                  <a:lnTo>
                    <a:pt x="461" y="0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72200" y="2644560"/>
              <a:ext cx="164448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172200" y="4438440"/>
              <a:ext cx="164448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16680" y="2644560"/>
              <a:ext cx="0" cy="17935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172200" y="2644560"/>
              <a:ext cx="0" cy="179352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5411880" y="4446360"/>
              <a:ext cx="747720" cy="89640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159600" y="4446360"/>
              <a:ext cx="164304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35640" y="4452480"/>
              <a:ext cx="2362320" cy="869760"/>
            </a:xfrm>
            <a:custGeom>
              <a:avLst/>
              <a:gdLst/>
              <a:ahLst/>
              <a:rect l="l" t="t" r="r" b="b"/>
              <a:pathLst>
                <a:path w="1488" h="548">
                  <a:moveTo>
                    <a:pt x="1488" y="0"/>
                  </a:moveTo>
                  <a:lnTo>
                    <a:pt x="1488" y="548"/>
                  </a:lnTo>
                  <a:lnTo>
                    <a:pt x="0" y="548"/>
                  </a:lnTo>
                  <a:lnTo>
                    <a:pt x="465" y="0"/>
                  </a:lnTo>
                  <a:lnTo>
                    <a:pt x="148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35640" y="4452480"/>
              <a:ext cx="2362320" cy="869760"/>
            </a:xfrm>
            <a:custGeom>
              <a:avLst/>
              <a:gdLst/>
              <a:ahLst/>
              <a:rect l="l" t="t" r="r" b="b"/>
              <a:pathLst>
                <a:path w="1488" h="548">
                  <a:moveTo>
                    <a:pt x="1488" y="0"/>
                  </a:moveTo>
                  <a:lnTo>
                    <a:pt x="1488" y="548"/>
                  </a:lnTo>
                  <a:lnTo>
                    <a:pt x="0" y="548"/>
                  </a:lnTo>
                  <a:lnTo>
                    <a:pt x="465" y="0"/>
                  </a:lnTo>
                  <a:lnTo>
                    <a:pt x="1488" y="0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157800" y="2658600"/>
              <a:ext cx="1640160" cy="17776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57800" y="2658600"/>
              <a:ext cx="1640160" cy="1777680"/>
            </a:xfrm>
            <a:prstGeom prst="rect">
              <a:avLst/>
            </a:pr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090440" y="1717200"/>
            <a:ext cx="3127680" cy="3574080"/>
            <a:chOff x="1090440" y="1717200"/>
            <a:chExt cx="3127680" cy="3574080"/>
          </a:xfrm>
        </p:grpSpPr>
        <p:sp>
          <p:nvSpPr>
            <p:cNvPr id="349" name=""/>
            <p:cNvSpPr/>
            <p:nvPr/>
          </p:nvSpPr>
          <p:spPr>
            <a:xfrm>
              <a:off x="1090440" y="2611440"/>
              <a:ext cx="0" cy="267984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218120" y="1717560"/>
              <a:ext cx="0" cy="267984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35280" y="2611440"/>
              <a:ext cx="0" cy="178596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73280" y="4397400"/>
              <a:ext cx="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1090440" y="1717200"/>
              <a:ext cx="74484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1090440" y="4397040"/>
              <a:ext cx="744840" cy="89388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3473280" y="4397040"/>
              <a:ext cx="74484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3473280" y="1717200"/>
              <a:ext cx="74484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35280" y="2611440"/>
              <a:ext cx="163800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35280" y="1717560"/>
              <a:ext cx="238284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90440" y="5291280"/>
              <a:ext cx="238284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5280" y="4397400"/>
              <a:ext cx="163800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90440" y="2611440"/>
              <a:ext cx="74484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35280" y="1717560"/>
              <a:ext cx="0" cy="89388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73280" y="4397400"/>
              <a:ext cx="74484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73280" y="2611440"/>
              <a:ext cx="0" cy="17859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25360" y="1733400"/>
              <a:ext cx="700200" cy="855720"/>
            </a:xfrm>
            <a:custGeom>
              <a:avLst/>
              <a:gdLst/>
              <a:ahLst/>
              <a:rect l="l" t="t" r="r" b="b"/>
              <a:pathLst>
                <a:path w="441" h="539">
                  <a:moveTo>
                    <a:pt x="0" y="539"/>
                  </a:moveTo>
                  <a:lnTo>
                    <a:pt x="441" y="0"/>
                  </a:lnTo>
                  <a:lnTo>
                    <a:pt x="441" y="539"/>
                  </a:lnTo>
                  <a:lnTo>
                    <a:pt x="0" y="539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25360" y="1733400"/>
              <a:ext cx="700200" cy="855720"/>
            </a:xfrm>
            <a:custGeom>
              <a:avLst/>
              <a:gdLst/>
              <a:ahLst/>
              <a:rect l="l" t="t" r="r" b="b"/>
              <a:pathLst>
                <a:path w="441" h="539">
                  <a:moveTo>
                    <a:pt x="0" y="539"/>
                  </a:moveTo>
                  <a:lnTo>
                    <a:pt x="441" y="0"/>
                  </a:lnTo>
                  <a:lnTo>
                    <a:pt x="441" y="539"/>
                  </a:lnTo>
                  <a:lnTo>
                    <a:pt x="0" y="539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03400" y="2617920"/>
              <a:ext cx="726840" cy="2666880"/>
            </a:xfrm>
            <a:custGeom>
              <a:avLst/>
              <a:gdLst/>
              <a:ahLst/>
              <a:rect l="l" t="t" r="r" b="b"/>
              <a:pathLst>
                <a:path w="458" h="1680">
                  <a:moveTo>
                    <a:pt x="458" y="0"/>
                  </a:moveTo>
                  <a:lnTo>
                    <a:pt x="458" y="1120"/>
                  </a:lnTo>
                  <a:lnTo>
                    <a:pt x="0" y="1680"/>
                  </a:lnTo>
                  <a:lnTo>
                    <a:pt x="0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03400" y="2617920"/>
              <a:ext cx="726840" cy="2666880"/>
            </a:xfrm>
            <a:custGeom>
              <a:avLst/>
              <a:gdLst/>
              <a:ahLst/>
              <a:rect l="l" t="t" r="r" b="b"/>
              <a:pathLst>
                <a:path w="458" h="1680">
                  <a:moveTo>
                    <a:pt x="458" y="0"/>
                  </a:moveTo>
                  <a:lnTo>
                    <a:pt x="458" y="1120"/>
                  </a:lnTo>
                  <a:lnTo>
                    <a:pt x="0" y="1680"/>
                  </a:lnTo>
                  <a:lnTo>
                    <a:pt x="0" y="0"/>
                  </a:lnTo>
                  <a:lnTo>
                    <a:pt x="458" y="0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090440" y="1748160"/>
            <a:ext cx="3102120" cy="3543120"/>
            <a:chOff x="1090440" y="1748160"/>
            <a:chExt cx="3102120" cy="3543120"/>
          </a:xfrm>
        </p:grpSpPr>
        <p:sp>
          <p:nvSpPr>
            <p:cNvPr id="370" name=""/>
            <p:cNvSpPr/>
            <p:nvPr/>
          </p:nvSpPr>
          <p:spPr>
            <a:xfrm>
              <a:off x="1090440" y="2633760"/>
              <a:ext cx="0" cy="26575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92560" y="1748160"/>
              <a:ext cx="0" cy="26571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28800" y="2633760"/>
              <a:ext cx="0" cy="177156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54200" y="4405320"/>
              <a:ext cx="0" cy="8859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090440" y="1748160"/>
              <a:ext cx="738360" cy="88560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090440" y="4404960"/>
              <a:ext cx="738360" cy="88596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3454200" y="4404960"/>
              <a:ext cx="738360" cy="8859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3454200" y="1748160"/>
              <a:ext cx="738360" cy="88560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28800" y="2633760"/>
              <a:ext cx="162540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28800" y="1748160"/>
              <a:ext cx="236376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90440" y="5291280"/>
              <a:ext cx="236376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28800" y="4405320"/>
              <a:ext cx="162540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90440" y="2633760"/>
              <a:ext cx="73836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28800" y="1748160"/>
              <a:ext cx="0" cy="88560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454200" y="4405320"/>
              <a:ext cx="73836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54200" y="2633760"/>
              <a:ext cx="0" cy="17715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68600" y="1784520"/>
              <a:ext cx="708120" cy="2614680"/>
            </a:xfrm>
            <a:custGeom>
              <a:avLst/>
              <a:gdLst/>
              <a:ahLst/>
              <a:rect l="l" t="t" r="r" b="b"/>
              <a:pathLst>
                <a:path w="446" h="1647">
                  <a:moveTo>
                    <a:pt x="0" y="1647"/>
                  </a:moveTo>
                  <a:lnTo>
                    <a:pt x="0" y="549"/>
                  </a:lnTo>
                  <a:lnTo>
                    <a:pt x="446" y="0"/>
                  </a:lnTo>
                  <a:lnTo>
                    <a:pt x="446" y="1647"/>
                  </a:lnTo>
                  <a:lnTo>
                    <a:pt x="0" y="1647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68600" y="1784520"/>
              <a:ext cx="708120" cy="2614680"/>
            </a:xfrm>
            <a:custGeom>
              <a:avLst/>
              <a:gdLst/>
              <a:ahLst/>
              <a:rect l="l" t="t" r="r" b="b"/>
              <a:pathLst>
                <a:path w="446" h="1647">
                  <a:moveTo>
                    <a:pt x="0" y="1647"/>
                  </a:moveTo>
                  <a:lnTo>
                    <a:pt x="0" y="549"/>
                  </a:lnTo>
                  <a:lnTo>
                    <a:pt x="446" y="0"/>
                  </a:lnTo>
                  <a:lnTo>
                    <a:pt x="446" y="1647"/>
                  </a:lnTo>
                  <a:lnTo>
                    <a:pt x="0" y="1647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68600" y="4413240"/>
              <a:ext cx="693720" cy="833760"/>
            </a:xfrm>
            <a:custGeom>
              <a:avLst/>
              <a:gdLst/>
              <a:ahLst/>
              <a:rect l="l" t="t" r="r" b="b"/>
              <a:pathLst>
                <a:path w="437" h="525">
                  <a:moveTo>
                    <a:pt x="437" y="0"/>
                  </a:moveTo>
                  <a:lnTo>
                    <a:pt x="0" y="525"/>
                  </a:lnTo>
                  <a:lnTo>
                    <a:pt x="0" y="0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68600" y="4413240"/>
              <a:ext cx="693720" cy="833760"/>
            </a:xfrm>
            <a:custGeom>
              <a:avLst/>
              <a:gdLst/>
              <a:ahLst/>
              <a:rect l="l" t="t" r="r" b="b"/>
              <a:pathLst>
                <a:path w="437" h="525">
                  <a:moveTo>
                    <a:pt x="437" y="0"/>
                  </a:moveTo>
                  <a:lnTo>
                    <a:pt x="0" y="525"/>
                  </a:lnTo>
                  <a:lnTo>
                    <a:pt x="0" y="0"/>
                  </a:lnTo>
                  <a:lnTo>
                    <a:pt x="437" y="0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RAWĘDZIE PROSTOPADŁ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3338640" y="1701720"/>
          <a:ext cx="318456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8640" y="170172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6462720" y="1719360"/>
          <a:ext cx="68400" cy="27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2720" y="1719360"/>
                    <a:ext cx="684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3333600" y="2619360"/>
          <a:ext cx="68400" cy="27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33600" y="2619360"/>
                    <a:ext cx="684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5742000" y="4373640"/>
          <a:ext cx="798480" cy="94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42000" y="4373640"/>
                    <a:ext cx="79848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3322800" y="1717560"/>
          <a:ext cx="799920" cy="946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22800" y="1717560"/>
                    <a:ext cx="79992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RAWĘDZIE RÓWNOLEGŁ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3338640" y="1701720"/>
          <a:ext cx="318456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8640" y="170172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6462720" y="1719360"/>
          <a:ext cx="68400" cy="27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2720" y="1719360"/>
                    <a:ext cx="684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5718240" y="2619360"/>
          <a:ext cx="68040" cy="27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8240" y="2619360"/>
                    <a:ext cx="6804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3357720" y="4397400"/>
          <a:ext cx="779400" cy="92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7720" y="4397400"/>
                    <a:ext cx="7794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3367080" y="1673280"/>
          <a:ext cx="800280" cy="946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67080" y="1673280"/>
                    <a:ext cx="80028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985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ZEŚCI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5564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962000" y="5454720"/>
            <a:ext cx="598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ześci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jest prostopadłościanem, którego wszystkie ściany są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wadra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3303720" y="1603440"/>
          <a:ext cx="3247920" cy="34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3720" y="1603440"/>
                    <a:ext cx="3247920" cy="34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3760920" y="38336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507000" y="384192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176640" y="495936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60920" y="49593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6453360" y="4011480"/>
          <a:ext cx="144360" cy="14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53360" y="4011480"/>
                    <a:ext cx="144360" cy="1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3265560" y="4876920"/>
          <a:ext cx="144360" cy="14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65560" y="4876920"/>
                    <a:ext cx="1443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4021200" y="4011480"/>
          <a:ext cx="144360" cy="14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21200" y="4011480"/>
                    <a:ext cx="144360" cy="1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5688000" y="4876920"/>
          <a:ext cx="144360" cy="14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88000" y="4876920"/>
                    <a:ext cx="1443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3041640" y="25160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760920" y="13460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425920" y="252252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07000" y="134604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021200" y="1577880"/>
          <a:ext cx="144360" cy="14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21200" y="1577880"/>
                    <a:ext cx="144360" cy="1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3265560" y="2478240"/>
          <a:ext cx="144360" cy="144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65560" y="2478240"/>
                    <a:ext cx="1443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6453360" y="1577880"/>
          <a:ext cx="144360" cy="144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53360" y="1577880"/>
                    <a:ext cx="144360" cy="1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5688000" y="2475000"/>
          <a:ext cx="144360" cy="144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688000" y="2475000"/>
                    <a:ext cx="1443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2700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EDMIOTY, KTÓRE MAJĄ KSZTAŁT PROSTOPADŁO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113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raz 143" descr=""/>
          <p:cNvPicPr/>
          <p:nvPr/>
        </p:nvPicPr>
        <p:blipFill>
          <a:blip r:embed="rId1"/>
          <a:srcRect l="49793" t="0" r="0" b="0"/>
          <a:stretch/>
        </p:blipFill>
        <p:spPr>
          <a:xfrm>
            <a:off x="2232000" y="1673280"/>
            <a:ext cx="5446800" cy="2125440"/>
          </a:xfrm>
          <a:prstGeom prst="rect">
            <a:avLst/>
          </a:prstGeom>
          <a:ln w="0">
            <a:noFill/>
          </a:ln>
        </p:spPr>
      </p:pic>
      <p:pic>
        <p:nvPicPr>
          <p:cNvPr id="97" name="Obraz 143" descr=""/>
          <p:cNvPicPr/>
          <p:nvPr/>
        </p:nvPicPr>
        <p:blipFill>
          <a:blip r:embed="rId2"/>
          <a:srcRect l="0" t="0" r="50005" b="0"/>
          <a:stretch/>
        </p:blipFill>
        <p:spPr>
          <a:xfrm>
            <a:off x="2276640" y="3968640"/>
            <a:ext cx="5400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RYSUNEK PROSTOPADŁO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132000" y="1538280"/>
          <a:ext cx="3186360" cy="36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538280"/>
                    <a:ext cx="3186360" cy="36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781280" y="5543640"/>
            <a:ext cx="657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stopadłości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zbudowany jest z prostokąt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IERZCHOŁKI PROSTOPADŁO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52360" y="5815080"/>
            <a:ext cx="742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ierzchołk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stopadłościanu oznaczamy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wielkimi liter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132000" y="1538280"/>
          <a:ext cx="3186360" cy="36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538280"/>
                    <a:ext cx="3186360" cy="36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3581280" y="400680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62360" y="243216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81640" y="401472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12621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46640" y="243828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81640" y="12621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97360" y="513252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81640" y="513252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462640" y="2394000"/>
          <a:ext cx="144360" cy="14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62640" y="2394000"/>
                    <a:ext cx="1443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841920" y="1494000"/>
          <a:ext cx="144360" cy="14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41920" y="1494000"/>
                    <a:ext cx="1443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086280" y="2394000"/>
          <a:ext cx="144360" cy="14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86280" y="2394000"/>
                    <a:ext cx="1443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192720" y="4184640"/>
          <a:ext cx="144720" cy="14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92720" y="4184640"/>
                    <a:ext cx="14472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192720" y="1494000"/>
          <a:ext cx="144720" cy="144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92720" y="1494000"/>
                    <a:ext cx="14472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086280" y="5049720"/>
          <a:ext cx="144360" cy="14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86280" y="5049720"/>
                    <a:ext cx="144360" cy="1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841920" y="4184640"/>
          <a:ext cx="144360" cy="144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41920" y="4184640"/>
                    <a:ext cx="1443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472000" y="5049720"/>
          <a:ext cx="144720" cy="144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72000" y="5049720"/>
                    <a:ext cx="144720" cy="1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ODSTAWY PROSTOPADŁO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321000" y="1719360"/>
            <a:ext cx="3251160" cy="3700440"/>
            <a:chOff x="3321000" y="1719360"/>
            <a:chExt cx="3251160" cy="3700440"/>
          </a:xfrm>
        </p:grpSpPr>
        <p:graphicFrame>
          <p:nvGraphicFramePr>
            <p:cNvPr id="135" name=""/>
            <p:cNvGraphicFramePr/>
            <p:nvPr/>
          </p:nvGraphicFramePr>
          <p:xfrm>
            <a:off x="3366720" y="1763640"/>
            <a:ext cx="3186360" cy="3633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66720" y="1763640"/>
                      <a:ext cx="3186360" cy="363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7" name=""/>
            <p:cNvGraphicFramePr/>
            <p:nvPr/>
          </p:nvGraphicFramePr>
          <p:xfrm>
            <a:off x="5697360" y="2619360"/>
            <a:ext cx="144360" cy="14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97360" y="2619360"/>
                      <a:ext cx="1443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9" name=""/>
            <p:cNvGraphicFramePr/>
            <p:nvPr/>
          </p:nvGraphicFramePr>
          <p:xfrm>
            <a:off x="4076640" y="1719360"/>
            <a:ext cx="144360" cy="144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76640" y="1719360"/>
                      <a:ext cx="1443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" name=""/>
            <p:cNvGraphicFramePr/>
            <p:nvPr/>
          </p:nvGraphicFramePr>
          <p:xfrm>
            <a:off x="3321000" y="2619360"/>
            <a:ext cx="144360" cy="144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321000" y="2619360"/>
                      <a:ext cx="1443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" name=""/>
            <p:cNvGraphicFramePr/>
            <p:nvPr/>
          </p:nvGraphicFramePr>
          <p:xfrm>
            <a:off x="6427440" y="4410000"/>
            <a:ext cx="144720" cy="144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427440" y="4410000"/>
                      <a:ext cx="14472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"/>
            <p:cNvGraphicFramePr/>
            <p:nvPr/>
          </p:nvGraphicFramePr>
          <p:xfrm>
            <a:off x="6427440" y="1719360"/>
            <a:ext cx="144720" cy="144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427440" y="1719360"/>
                      <a:ext cx="14472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7" name=""/>
            <p:cNvGraphicFramePr/>
            <p:nvPr/>
          </p:nvGraphicFramePr>
          <p:xfrm>
            <a:off x="3321000" y="5275080"/>
            <a:ext cx="144360" cy="144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321000" y="5275080"/>
                      <a:ext cx="144360" cy="14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4076640" y="4410000"/>
            <a:ext cx="144360" cy="144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076640" y="4410000"/>
                      <a:ext cx="1443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" name=""/>
            <p:cNvGraphicFramePr/>
            <p:nvPr/>
          </p:nvGraphicFramePr>
          <p:xfrm>
            <a:off x="5706720" y="5275080"/>
            <a:ext cx="144720" cy="1447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706720" y="5275080"/>
                      <a:ext cx="144720" cy="14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3" name=""/>
          <p:cNvGraphicFramePr/>
          <p:nvPr/>
        </p:nvGraphicFramePr>
        <p:xfrm>
          <a:off x="3363840" y="1773360"/>
          <a:ext cx="3187800" cy="3635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363840" y="1773360"/>
                    <a:ext cx="318780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357720" y="1763640"/>
          <a:ext cx="3189240" cy="3635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57720" y="1763640"/>
                    <a:ext cx="318924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0320" y="0"/>
            <a:ext cx="799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ŚCIANY BOCZNE PROSTOPADŁO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265560" y="1673280"/>
            <a:ext cx="3251160" cy="3700440"/>
            <a:chOff x="3265560" y="1673280"/>
            <a:chExt cx="3251160" cy="3700440"/>
          </a:xfrm>
        </p:grpSpPr>
        <p:graphicFrame>
          <p:nvGraphicFramePr>
            <p:cNvPr id="160" name=""/>
            <p:cNvGraphicFramePr/>
            <p:nvPr/>
          </p:nvGraphicFramePr>
          <p:xfrm>
            <a:off x="3311280" y="1717560"/>
            <a:ext cx="3186360" cy="3633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11280" y="1717560"/>
                      <a:ext cx="3186360" cy="363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2" name=""/>
            <p:cNvGraphicFramePr/>
            <p:nvPr/>
          </p:nvGraphicFramePr>
          <p:xfrm>
            <a:off x="5641920" y="2573280"/>
            <a:ext cx="144360" cy="14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41920" y="2573280"/>
                      <a:ext cx="1443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"/>
            <p:cNvGraphicFramePr/>
            <p:nvPr/>
          </p:nvGraphicFramePr>
          <p:xfrm>
            <a:off x="4021200" y="1673280"/>
            <a:ext cx="144360" cy="144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21200" y="1673280"/>
                      <a:ext cx="1443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"/>
            <p:cNvGraphicFramePr/>
            <p:nvPr/>
          </p:nvGraphicFramePr>
          <p:xfrm>
            <a:off x="3265560" y="2573280"/>
            <a:ext cx="144360" cy="144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265560" y="2573280"/>
                      <a:ext cx="1443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"/>
            <p:cNvGraphicFramePr/>
            <p:nvPr/>
          </p:nvGraphicFramePr>
          <p:xfrm>
            <a:off x="6372000" y="4363920"/>
            <a:ext cx="144720" cy="144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72000" y="4363920"/>
                      <a:ext cx="14472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" name=""/>
            <p:cNvGraphicFramePr/>
            <p:nvPr/>
          </p:nvGraphicFramePr>
          <p:xfrm>
            <a:off x="6372000" y="1673280"/>
            <a:ext cx="144720" cy="144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372000" y="1673280"/>
                      <a:ext cx="14472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" name=""/>
            <p:cNvGraphicFramePr/>
            <p:nvPr/>
          </p:nvGraphicFramePr>
          <p:xfrm>
            <a:off x="3265560" y="5229000"/>
            <a:ext cx="144360" cy="144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265560" y="5229000"/>
                      <a:ext cx="144360" cy="14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4" name=""/>
            <p:cNvGraphicFramePr/>
            <p:nvPr/>
          </p:nvGraphicFramePr>
          <p:xfrm>
            <a:off x="4021200" y="4363920"/>
            <a:ext cx="144360" cy="144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021200" y="4363920"/>
                      <a:ext cx="1443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6" name=""/>
            <p:cNvGraphicFramePr/>
            <p:nvPr/>
          </p:nvGraphicFramePr>
          <p:xfrm>
            <a:off x="5651280" y="5229000"/>
            <a:ext cx="144720" cy="1447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651280" y="5229000"/>
                      <a:ext cx="144720" cy="14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8" name=""/>
          <p:cNvGraphicFramePr/>
          <p:nvPr/>
        </p:nvGraphicFramePr>
        <p:xfrm>
          <a:off x="3297240" y="1719360"/>
          <a:ext cx="3209760" cy="3644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97240" y="1719360"/>
                    <a:ext cx="3209760" cy="36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311640" y="1763640"/>
          <a:ext cx="3159000" cy="3600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11640" y="1763640"/>
                    <a:ext cx="31590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322800" y="1719360"/>
          <a:ext cx="3184200" cy="3630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322800" y="1719360"/>
                    <a:ext cx="318420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322800" y="1719360"/>
          <a:ext cx="3184200" cy="3630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322800" y="1719360"/>
                    <a:ext cx="318420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RAWĘDZIE PODSTAWY </a:t>
            </a:r>
            <a:br>
              <a:rPr sz="3000"/>
            </a:b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GÓRNEJ I DOLNE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46280" y="108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338640" y="1701720"/>
          <a:ext cx="318456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8640" y="170172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5742000" y="4373640"/>
          <a:ext cx="797040" cy="9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42000" y="4373640"/>
                    <a:ext cx="79704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732640" y="1719360"/>
          <a:ext cx="779400" cy="92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32640" y="1719360"/>
                    <a:ext cx="7794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3357720" y="4373640"/>
          <a:ext cx="798480" cy="94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7720" y="4373640"/>
                    <a:ext cx="79848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322800" y="1717560"/>
          <a:ext cx="799920" cy="946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22800" y="1717560"/>
                    <a:ext cx="79992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3357720" y="5273640"/>
          <a:ext cx="2428560" cy="68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7720" y="5273640"/>
                    <a:ext cx="2428560" cy="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3357720" y="2595600"/>
          <a:ext cx="2428560" cy="68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57720" y="2595600"/>
                    <a:ext cx="2428560" cy="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4032360" y="1695600"/>
          <a:ext cx="2474640" cy="68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032360" y="1695600"/>
                    <a:ext cx="2474640" cy="6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076640" y="4373640"/>
          <a:ext cx="2428920" cy="68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76640" y="4373640"/>
                    <a:ext cx="2428920" cy="6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RAWĘDZIE BOCZ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338640" y="1701720"/>
          <a:ext cx="318456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8640" y="170172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5718240" y="2619360"/>
          <a:ext cx="68040" cy="27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8240" y="2619360"/>
                    <a:ext cx="6804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6462720" y="1719360"/>
          <a:ext cx="68400" cy="27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62720" y="1719360"/>
                    <a:ext cx="684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076640" y="1719360"/>
          <a:ext cx="68400" cy="270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76640" y="1719360"/>
                    <a:ext cx="684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333600" y="2619360"/>
          <a:ext cx="68400" cy="270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33600" y="2619360"/>
                    <a:ext cx="684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ŚCIANY PROSTOPADŁ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062000" y="1701720"/>
          <a:ext cx="318456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70172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1109880" y="1747440"/>
            <a:ext cx="3127320" cy="3574080"/>
            <a:chOff x="1109880" y="1747440"/>
            <a:chExt cx="3127320" cy="3574080"/>
          </a:xfrm>
        </p:grpSpPr>
        <p:sp>
          <p:nvSpPr>
            <p:cNvPr id="223" name=""/>
            <p:cNvSpPr/>
            <p:nvPr/>
          </p:nvSpPr>
          <p:spPr>
            <a:xfrm>
              <a:off x="1109880" y="2641680"/>
              <a:ext cx="0" cy="267984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37200" y="1747800"/>
              <a:ext cx="0" cy="267984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54360" y="2641680"/>
              <a:ext cx="0" cy="178596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92720" y="4427640"/>
              <a:ext cx="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109880" y="1747440"/>
              <a:ext cx="74448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109880" y="4427280"/>
              <a:ext cx="744480" cy="89388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492720" y="4427280"/>
              <a:ext cx="74448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492720" y="1747440"/>
              <a:ext cx="74448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54360" y="2641680"/>
              <a:ext cx="163836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54360" y="1747800"/>
              <a:ext cx="238284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09880" y="5321520"/>
              <a:ext cx="238284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54360" y="4427640"/>
              <a:ext cx="163836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09880" y="2641680"/>
              <a:ext cx="74448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54360" y="1747800"/>
              <a:ext cx="0" cy="89388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92720" y="4427640"/>
              <a:ext cx="74448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92720" y="2641680"/>
              <a:ext cx="0" cy="17859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06760" y="1762200"/>
              <a:ext cx="714600" cy="2658960"/>
            </a:xfrm>
            <a:custGeom>
              <a:avLst/>
              <a:gdLst/>
              <a:ahLst/>
              <a:rect l="l" t="t" r="r" b="b"/>
              <a:pathLst>
                <a:path w="450" h="1675">
                  <a:moveTo>
                    <a:pt x="0" y="1675"/>
                  </a:moveTo>
                  <a:lnTo>
                    <a:pt x="0" y="558"/>
                  </a:lnTo>
                  <a:lnTo>
                    <a:pt x="450" y="0"/>
                  </a:lnTo>
                  <a:lnTo>
                    <a:pt x="450" y="1675"/>
                  </a:lnTo>
                  <a:lnTo>
                    <a:pt x="0" y="1675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06760" y="1762200"/>
              <a:ext cx="714600" cy="2658960"/>
            </a:xfrm>
            <a:custGeom>
              <a:avLst/>
              <a:gdLst/>
              <a:ahLst/>
              <a:rect l="l" t="t" r="r" b="b"/>
              <a:pathLst>
                <a:path w="450" h="1675">
                  <a:moveTo>
                    <a:pt x="0" y="1675"/>
                  </a:moveTo>
                  <a:lnTo>
                    <a:pt x="0" y="558"/>
                  </a:lnTo>
                  <a:lnTo>
                    <a:pt x="450" y="0"/>
                  </a:lnTo>
                  <a:lnTo>
                    <a:pt x="450" y="1675"/>
                  </a:lnTo>
                  <a:lnTo>
                    <a:pt x="0" y="1675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55800" y="1768680"/>
              <a:ext cx="2343240" cy="865080"/>
            </a:xfrm>
            <a:custGeom>
              <a:avLst/>
              <a:gdLst/>
              <a:ahLst/>
              <a:rect l="l" t="t" r="r" b="b"/>
              <a:pathLst>
                <a:path w="1476" h="545">
                  <a:moveTo>
                    <a:pt x="0" y="545"/>
                  </a:moveTo>
                  <a:lnTo>
                    <a:pt x="0" y="0"/>
                  </a:lnTo>
                  <a:lnTo>
                    <a:pt x="1476" y="0"/>
                  </a:lnTo>
                  <a:lnTo>
                    <a:pt x="1042" y="545"/>
                  </a:lnTo>
                  <a:lnTo>
                    <a:pt x="0" y="545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55800" y="1768680"/>
              <a:ext cx="2343240" cy="865080"/>
            </a:xfrm>
            <a:custGeom>
              <a:avLst/>
              <a:gdLst/>
              <a:ahLst/>
              <a:rect l="l" t="t" r="r" b="b"/>
              <a:pathLst>
                <a:path w="1476" h="545">
                  <a:moveTo>
                    <a:pt x="0" y="545"/>
                  </a:moveTo>
                  <a:lnTo>
                    <a:pt x="0" y="0"/>
                  </a:lnTo>
                  <a:lnTo>
                    <a:pt x="1476" y="0"/>
                  </a:lnTo>
                  <a:lnTo>
                    <a:pt x="1042" y="545"/>
                  </a:lnTo>
                  <a:lnTo>
                    <a:pt x="0" y="545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55800" y="2648160"/>
              <a:ext cx="1621080" cy="1774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55800" y="2648160"/>
              <a:ext cx="1621080" cy="1774800"/>
            </a:xfrm>
            <a:prstGeom prst="rect">
              <a:avLst/>
            </a:pr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116000" y="1747800"/>
            <a:ext cx="3130560" cy="3578400"/>
            <a:chOff x="1116000" y="1747800"/>
            <a:chExt cx="3130560" cy="3578400"/>
          </a:xfrm>
        </p:grpSpPr>
        <p:sp>
          <p:nvSpPr>
            <p:cNvPr id="246" name=""/>
            <p:cNvSpPr/>
            <p:nvPr/>
          </p:nvSpPr>
          <p:spPr>
            <a:xfrm>
              <a:off x="1116000" y="2643480"/>
              <a:ext cx="0" cy="26827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46560" y="1747800"/>
              <a:ext cx="0" cy="26845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61920" y="2643480"/>
              <a:ext cx="0" cy="178884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1116000" y="1747800"/>
              <a:ext cx="745560" cy="8956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502080" y="1747800"/>
              <a:ext cx="744120" cy="8956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61920" y="2643480"/>
              <a:ext cx="163980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61920" y="1747800"/>
              <a:ext cx="238428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16000" y="2643480"/>
              <a:ext cx="74556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61920" y="1747800"/>
              <a:ext cx="0" cy="89568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2080" y="2643480"/>
              <a:ext cx="0" cy="178884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02080" y="4432320"/>
              <a:ext cx="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1116000" y="4431960"/>
              <a:ext cx="745560" cy="89388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16000" y="5326200"/>
              <a:ext cx="238572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61920" y="4432320"/>
              <a:ext cx="163980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16000" y="4432320"/>
              <a:ext cx="2374560" cy="879480"/>
            </a:xfrm>
            <a:custGeom>
              <a:avLst/>
              <a:gdLst/>
              <a:ahLst/>
              <a:rect l="l" t="t" r="r" b="b"/>
              <a:pathLst>
                <a:path w="1496" h="554">
                  <a:moveTo>
                    <a:pt x="1496" y="0"/>
                  </a:moveTo>
                  <a:lnTo>
                    <a:pt x="1496" y="554"/>
                  </a:lnTo>
                  <a:lnTo>
                    <a:pt x="0" y="554"/>
                  </a:lnTo>
                  <a:lnTo>
                    <a:pt x="468" y="0"/>
                  </a:lnTo>
                  <a:lnTo>
                    <a:pt x="1496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16000" y="4432320"/>
              <a:ext cx="2374560" cy="879480"/>
            </a:xfrm>
            <a:custGeom>
              <a:avLst/>
              <a:gdLst/>
              <a:ahLst/>
              <a:rect l="l" t="t" r="r" b="b"/>
              <a:pathLst>
                <a:path w="1496" h="554">
                  <a:moveTo>
                    <a:pt x="1496" y="0"/>
                  </a:moveTo>
                  <a:lnTo>
                    <a:pt x="1496" y="554"/>
                  </a:lnTo>
                  <a:lnTo>
                    <a:pt x="0" y="554"/>
                  </a:lnTo>
                  <a:lnTo>
                    <a:pt x="468" y="0"/>
                  </a:lnTo>
                  <a:lnTo>
                    <a:pt x="1496" y="0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502080" y="4431960"/>
              <a:ext cx="74412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02080" y="4432320"/>
              <a:ext cx="74412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02080" y="4432320"/>
              <a:ext cx="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16120" y="4432320"/>
              <a:ext cx="701280" cy="841320"/>
            </a:xfrm>
            <a:custGeom>
              <a:avLst/>
              <a:gdLst/>
              <a:ahLst/>
              <a:rect l="l" t="t" r="r" b="b"/>
              <a:pathLst>
                <a:path w="442" h="530">
                  <a:moveTo>
                    <a:pt x="442" y="0"/>
                  </a:moveTo>
                  <a:lnTo>
                    <a:pt x="0" y="530"/>
                  </a:lnTo>
                  <a:lnTo>
                    <a:pt x="0" y="0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16120" y="4432320"/>
              <a:ext cx="701280" cy="841320"/>
            </a:xfrm>
            <a:custGeom>
              <a:avLst/>
              <a:gdLst/>
              <a:ahLst/>
              <a:rect l="l" t="t" r="r" b="b"/>
              <a:pathLst>
                <a:path w="442" h="530">
                  <a:moveTo>
                    <a:pt x="442" y="0"/>
                  </a:moveTo>
                  <a:lnTo>
                    <a:pt x="0" y="530"/>
                  </a:lnTo>
                  <a:lnTo>
                    <a:pt x="0" y="0"/>
                  </a:lnTo>
                  <a:lnTo>
                    <a:pt x="442" y="0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5392800" y="1701720"/>
          <a:ext cx="3184560" cy="363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2800" y="170172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5381640" y="1719360"/>
          <a:ext cx="3184560" cy="363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81640" y="171936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1" name=""/>
          <p:cNvGrpSpPr/>
          <p:nvPr/>
        </p:nvGrpSpPr>
        <p:grpSpPr>
          <a:xfrm>
            <a:off x="5418000" y="1756800"/>
            <a:ext cx="3130560" cy="3578760"/>
            <a:chOff x="5418000" y="1756800"/>
            <a:chExt cx="3130560" cy="3578760"/>
          </a:xfrm>
        </p:grpSpPr>
        <p:sp>
          <p:nvSpPr>
            <p:cNvPr id="272" name=""/>
            <p:cNvSpPr/>
            <p:nvPr/>
          </p:nvSpPr>
          <p:spPr>
            <a:xfrm>
              <a:off x="5418000" y="2652480"/>
              <a:ext cx="0" cy="26830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548560" y="1757160"/>
              <a:ext cx="0" cy="26845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64280" y="2652480"/>
              <a:ext cx="0" cy="178920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418000" y="1756800"/>
              <a:ext cx="746280" cy="8953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804080" y="1756800"/>
              <a:ext cx="744480" cy="8953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64280" y="2652480"/>
              <a:ext cx="163980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64280" y="1757160"/>
              <a:ext cx="238428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8000" y="2652480"/>
              <a:ext cx="74628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64280" y="1757160"/>
              <a:ext cx="0" cy="89532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04080" y="2652480"/>
              <a:ext cx="0" cy="178920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04080" y="4441680"/>
              <a:ext cx="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418000" y="4441320"/>
              <a:ext cx="746280" cy="89388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18000" y="5335560"/>
              <a:ext cx="238608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64280" y="4441680"/>
              <a:ext cx="163980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18000" y="4441680"/>
              <a:ext cx="2374920" cy="879480"/>
            </a:xfrm>
            <a:custGeom>
              <a:avLst/>
              <a:gdLst/>
              <a:ahLst/>
              <a:rect l="l" t="t" r="r" b="b"/>
              <a:pathLst>
                <a:path w="1496" h="554">
                  <a:moveTo>
                    <a:pt x="1496" y="0"/>
                  </a:moveTo>
                  <a:lnTo>
                    <a:pt x="1496" y="554"/>
                  </a:lnTo>
                  <a:lnTo>
                    <a:pt x="0" y="554"/>
                  </a:lnTo>
                  <a:lnTo>
                    <a:pt x="468" y="0"/>
                  </a:lnTo>
                  <a:lnTo>
                    <a:pt x="149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18000" y="4441680"/>
              <a:ext cx="2374920" cy="879480"/>
            </a:xfrm>
            <a:custGeom>
              <a:avLst/>
              <a:gdLst/>
              <a:ahLst/>
              <a:rect l="l" t="t" r="r" b="b"/>
              <a:pathLst>
                <a:path w="1496" h="554">
                  <a:moveTo>
                    <a:pt x="1496" y="0"/>
                  </a:moveTo>
                  <a:lnTo>
                    <a:pt x="1496" y="554"/>
                  </a:lnTo>
                  <a:lnTo>
                    <a:pt x="0" y="554"/>
                  </a:lnTo>
                  <a:lnTo>
                    <a:pt x="468" y="0"/>
                  </a:lnTo>
                  <a:lnTo>
                    <a:pt x="1496" y="0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7804080" y="4441320"/>
              <a:ext cx="74448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04080" y="4441680"/>
              <a:ext cx="74448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04080" y="4441680"/>
              <a:ext cx="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18480" y="4441680"/>
              <a:ext cx="701640" cy="841320"/>
            </a:xfrm>
            <a:custGeom>
              <a:avLst/>
              <a:gdLst/>
              <a:ahLst/>
              <a:rect l="l" t="t" r="r" b="b"/>
              <a:pathLst>
                <a:path w="442" h="530">
                  <a:moveTo>
                    <a:pt x="442" y="0"/>
                  </a:moveTo>
                  <a:lnTo>
                    <a:pt x="0" y="530"/>
                  </a:lnTo>
                  <a:lnTo>
                    <a:pt x="0" y="0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8480" y="4441680"/>
              <a:ext cx="701640" cy="841320"/>
            </a:xfrm>
            <a:custGeom>
              <a:avLst/>
              <a:gdLst/>
              <a:ahLst/>
              <a:rect l="l" t="t" r="r" b="b"/>
              <a:pathLst>
                <a:path w="442" h="530">
                  <a:moveTo>
                    <a:pt x="442" y="0"/>
                  </a:moveTo>
                  <a:lnTo>
                    <a:pt x="0" y="530"/>
                  </a:lnTo>
                  <a:lnTo>
                    <a:pt x="0" y="0"/>
                  </a:lnTo>
                  <a:lnTo>
                    <a:pt x="442" y="0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8T21:19:37Z</dcterms:modified>
  <cp:revision>17</cp:revision>
  <dc:subject/>
  <dc:title>Slajd 1</dc:title>
</cp:coreProperties>
</file>